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BFCF-E570-4DD9-A463-94ADEA2B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A2F-83C2-4728-B020-7E181EF8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179-964C-4057-A5F1-C595EA9C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AF6-7729-4F20-99A9-A9D4F05A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E0D-BCE0-4185-84E0-782DC8CF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5C5-719E-47C4-805B-CE46955B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049-83C5-4F41-A51D-EEED1469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030-CE1A-4025-8D3C-138A994A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133-110B-4EF1-B6CE-51789920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CD4-6C7E-4534-AAE8-B0209BCD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8DB-D5A2-40C3-8D63-9F85504D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933-989B-4131-AD02-C38C7F7C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3006-0A84-4682-97C0-61FA18E8C8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040" y="838080"/>
            <a:ext cx="73422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附件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（项目名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验收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  务  来  源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承  担  单  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 目 负责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汇     报    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 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模板列出了汇报的主要内容和逻辑结构，供汇报单位参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中具体所使用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观、配色、大小等请汇报单位根据自身情况进行编制；要求简洁、清晰、美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单位应根据汇报时间的控制要求，简明扼要突出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汇报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项目概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成果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经费使用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问题及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项目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项背景及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核的主要指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项目实施情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8640" y="1600200"/>
            <a:ext cx="792504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研究方案与技术路线（整体工作思路，主要采取的研究方法、手段、工具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完成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62120" y="4038480"/>
          <a:ext cx="7696080" cy="185904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项目考核指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指标完成情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成果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介绍，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技术关键、主要技术经济指标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创新点、与国内外同类技术、成果的比较和获奖情况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成果推广应用前景及经济、社会效益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经费使用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简要描述项目经费使用情况（根据任务约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此处插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项目经费决算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问题及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存在问题及有关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1265"/>
          <p:cNvSpPr/>
          <p:nvPr/>
        </p:nvSpPr>
        <p:spPr>
          <a:xfrm>
            <a:off x="1371600" y="2136600"/>
            <a:ext cx="63230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汇报完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1T03:24:23Z</dcterms:created>
  <dc:creator/>
  <dc:description/>
  <dc:language>en-US</dc:language>
  <cp:lastModifiedBy>然</cp:lastModifiedBy>
  <dcterms:modified xsi:type="dcterms:W3CDTF">2018-03-15T01:10:35Z</dcterms:modified>
  <cp:revision>3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KSORubyTemplateID">
    <vt:lpwstr>2</vt:lpwstr>
  </property>
  <property fmtid="{D5CDD505-2E9C-101B-9397-08002B2CF9AE}" pid="4" name="Version">
    <vt:r8>1</vt:r8>
  </property>
</Properties>
</file>